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50C-0788-4F36-8BF3-90505ABF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C9E-923F-4FE8-860A-8B97FCE4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86D-6846-4181-80FF-85AAB73A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62C-2F2D-4900-8E98-6C935F5D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792-DAD0-41E7-9C24-EF7B5D7D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67D-7DC4-4BCE-BA64-EB249714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682-652F-4129-A06A-526C18B4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232-B5E7-4AD4-ADAA-D1FE6AC2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023-17D0-4B16-AC60-EB21DDD9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FC1-3604-46C2-8119-96BF2F45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D0A-830A-4C40-98E3-7F137BDB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93D-D8A4-48F8-9502-80E3C2FB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7124-E60B-4B27-82CE-F1C4DB721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2006640" cy="2210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00400" y="24382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133720" y="4648320"/>
            <a:ext cx="464796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200400" y="1828800"/>
            <a:ext cx="2819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858000" cy="190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6858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72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3733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990720"/>
            <a:ext cx="19605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5105520" cy="1155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31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34320" cy="2336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640080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3880" y="4191120"/>
            <a:ext cx="6400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16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411480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43840" y="4419720"/>
            <a:ext cx="44204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CHILD’S MEDIC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.g., aspir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01028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49680" y="1828800"/>
            <a:ext cx="3833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4114800"/>
            <a:ext cx="281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10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30T14:15:56Z</dcterms:modified>
  <cp:revision>107</cp:revision>
  <dc:subject/>
  <dc:title>The Art in the State of the Art</dc:title>
</cp:coreProperties>
</file>